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ECAC-6DE8-433D-906A-3E0A30222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sylation:  addition of a carbohydr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D4A-EBBA-49CD-AEE0-92546309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F54-89A3-4759-AE92-A4BFDB0E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294-DC13-4460-8B6D-99C58DFC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A07-4901-487A-9A37-05792D1E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67C-6FFD-47B6-AA69-42ABC2DB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76C-9A21-4BBC-AD7D-1E8417AF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71E-1B91-4E95-9144-EDE19B7C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819-B429-40E7-86B3-4F60B22B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91F-A15B-4B5A-896B-789BF8EF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90D-40C4-4E75-A798-E18D4BE2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AD6-1402-484C-98CD-3C217A32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72B-32F2-403C-8555-951D2BEE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4AFF-21E6-43D4-AB47-FD29EAB5F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cs.whfreeman.com/thelifewire/content/chp12/1202003.html" TargetMode="External"/><Relationship Id="rId2" Type="http://schemas.openxmlformats.org/officeDocument/2006/relationships/hyperlink" Target="http://highered.mcgraw-hill.com/sites/0072943696/student_view0/chapter3/animation__how_translation_works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ap.wikispaces.com/Ch+17+Collaboration+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2367000"/>
            <a:ext cx="77724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NA carrying methionine enter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eptide)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rib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NA carrying the second amino acid enter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(acceptor)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ide bond forms between the methionine and the second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bosome shifts one co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ionine tRNA is rel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tRNA moves into the P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ird tRNA enters the A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ide bond is formed between the second and third amino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ngation continues on in this m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users.rcn.com/jkimball.ma.ultranet/BiologyPages/T/Transl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06800" y="1981080"/>
            <a:ext cx="292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codons: UGA, UAG and U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known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2 subunits of the ribosome to fall off of the mRNA, releasing the poly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33720" y="4419720"/>
            <a:ext cx="487656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translational Mod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lypeptides may be modified after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sy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ory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ated animation with qui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bcs.whfreeman.com/thelifewire/content/chp12/1202003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ated animation (McGraw-Hill) with qui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highered.mcgraw-hill.com/sites/0072943696/student_view0/chapter3/animation__how_translation_work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where the mRNA sequence is used to make a polypeptide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rib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ibosom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ie.uni-hamburg.de/b-online/library/onlinebio/BioBookCELL2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two subunits, 40S and 60S, composed of rRNA and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units clamp the mRNA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3016080"/>
            <a:ext cx="38098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tranded nucleic acid with a cloverleaf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equence of 3 bases) on the anticodon arm, complementary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 RNA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iley.com/college/boyer/0470003790/structure/tRNA/trna_intro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81440" y="1981080"/>
            <a:ext cx="338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noacyl-tRNA synthetase adds the correct amino acid to the adenine nucleotide at the 3’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inoacyl-t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NA with corresponding amino acid att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NAs deliver the correct amino acid to the growing polypeptide chain by complementary pairing betwee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cod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bble 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NA can recognize more than one codon by unusual pairing between the first (5’) base of the anticodon and third (3’) base of the co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consists of three main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ini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elon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bosome recognizes the 5’ cap of the mRNA and the mRNA moves through the ribosome from the 5’ to the 3’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 (methionine)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the first cod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e corr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930920" y="3362400"/>
            <a:ext cx="2689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0:14:18Z</dcterms:created>
  <dc:creator>user</dc:creator>
  <dc:description/>
  <dc:language>en-US</dc:language>
  <cp:lastModifiedBy>rubina khan</cp:lastModifiedBy>
  <dcterms:modified xsi:type="dcterms:W3CDTF">2011-11-16T11:50:11Z</dcterms:modified>
  <cp:revision>71</cp:revision>
  <dc:subject/>
  <dc:title>PowerPoint Presentation</dc:title>
</cp:coreProperties>
</file>